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ECC-EDF9-4283-8717-DB983F22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B0E-DE70-43B5-BF82-86B47A57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306-6228-4ADD-8116-7B30DCEC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245-2FFC-4968-9A01-4D46DF4B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E6F-94EA-43DD-A9DC-89F4A6E2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C2E6-42C6-4881-AA41-BA504C3B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2597-8C98-40FE-90F3-A7B2ED53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2222-4DF1-40DA-93BB-7154FC09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0AC7-9A79-420C-A3B2-36FE5F91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5F7-1BC3-4DC9-A0B1-11E343E3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6D8-9162-4A82-B1C6-4AEC45C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075-1FEF-4D95-8A3F-B284ADB9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A190-15D4-4247-A785-D7F195A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90CC-6E7B-4EAE-A635-A561602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6EC9-7278-4FDF-9DC5-F6CD523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6673-A81D-4907-9828-FD51DF24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9414-B056-430B-A342-4AB0B7EA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D34C-00D2-4F72-8C54-C498DF18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1748-DDED-4BF4-B611-50DF25E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4F05-0CAE-4AB3-A209-7553B64C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F2ED-8C2C-43A0-9897-C64DD99C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5C72-CF4B-4869-9A33-80C94F85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623-B015-4D13-B9C7-1B954FD5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5D2C6-20C9-46EB-848F-ED59A76E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3A17-86A9-41B0-B9B8-0AA3FBD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4335-7476-49C3-A2F0-052D7960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AB8E-D676-45C2-AC9C-CA9B8321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A8B6-F3D4-443B-B753-73A3752C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AA3D-545E-4BE7-B291-23436F0F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2EE2-1427-473E-A506-2EAD06DF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395D-1011-4C30-8414-AC1A17F3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ED989-D205-41DE-950D-773E03F2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FA00-A254-4A48-B919-7998EAA1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E55-34C7-4E6B-981F-CE9D26A0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1DD02-701C-40FD-A488-480ACFF0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9B084-766A-48C0-8848-8308FE2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CED6-CD84-4B46-89C1-0D7169B4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F7421-F026-4856-B699-05BB549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A4351-3D95-4982-85EB-AF13670C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21A2-66D3-4776-B585-A5E3C50D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E9E4-4A0B-4576-83C6-DF99D71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4D94-FAA2-4F07-95CD-C9E643D9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F779A-4672-47B8-8B01-51A5ED0F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3F0C-DA99-48A3-A948-6AADF983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FB1-A5C6-48E9-9569-5D82E64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D8E7E-0378-4A5A-B08A-3FB593ED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7630-7D4F-4444-A3FD-8D98222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392F6-EF59-4C42-8457-2F8F6A8A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99C30-44FA-4A52-9ECE-FE6ED8DA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1EA30-23B0-473D-86CC-91E3DC3D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374D-C713-42E7-8978-490371CE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58137-B25B-4E79-A661-C164FAD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8880-8AF7-4EE2-9F94-4384A35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B1F6F-43C8-4E49-BFE4-16E971C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123B0-73AE-469F-A185-6708B3C6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6CE-0ED3-45E8-A10E-130AF986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AC2E1-2E9F-4962-AAB9-4CE5A6D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824-B532-4992-870F-DA350D3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2EA-0A1C-49E1-8445-4E5EF4A1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9A3-99C7-4E29-80A0-541CB0F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2FCF-CBC1-460E-92B1-1A0F76D7110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C21-0456-48AF-9F22-248E58F8E3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FFF-17F7-456D-85D6-2286B0F09A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CE09-344A-4C24-A161-62921CDBCC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4A46-C82C-4733-9D75-27C1875CBB4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hcs.k12.nc.us/instruction/CITWweb/ObjectivesFeedback/Big%20Ideas%20and%20Essential%20Questions%20in%20Curriculum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Perpetua"/>
              </a:rPr>
              <a:t>Questions, not statements will stimulate student curiosity to find the answers.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veloping 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124080" y="59436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rom:</a:t>
            </a:r>
            <a:r>
              <a:rPr b="1" i="1" lang="en-US" sz="1800" spc="-1" strike="noStrike">
                <a:solidFill>
                  <a:srgbClr val="000000"/>
                </a:solidFill>
                <a:latin typeface="Perpetua"/>
              </a:rPr>
              <a:t>“Unwrapping” th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Perpetua"/>
              </a:rPr>
              <a:t>Presented by: </a:t>
            </a: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Center for Performanc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annot be answered with “yes” or “no” or with simple recall of fac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Often written as “one-two punch” question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What are literary devices? Why do authors use them?”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What is estimation? When and how do we use it?”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Open-ended, yet focus inquiry into a specific topic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nswering them requires high-level depth of knowledge (DOK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uccinct – a few words that demand a lo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96464"/>
                </a:solidFill>
                <a:latin typeface="Franklin Gothic Book"/>
              </a:rPr>
              <a:t>Benefits of Essential Question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eachers use as instructional filter for selecting lessons and activities that advance student understanding toward Big Idea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Students develop their understanding of concepts and processes as they move through instruction and activiti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The work students produce provides evidence that the standards have been met—and to what degree (defined by rubric or scoring guide criteria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History/Social Science Big Idea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and Essential Ques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“Geographic, political, cultural, and religious structures work together to ensure the survival and advancement of all civilizations.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“Why do all civilizations—past and present—need organizational structures?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Science Big Idea and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“People can learn and apply a systematic process for understanding the natural world.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“What is scientific inquiry? How do we use it in real life?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Math Big Idea and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Mathematical formulas provide shortcuts for verifying estimates and solving problem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Why learn mathematical formulas? How do estimation and formulas work together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LA Big Idea and</a:t>
            </a:r>
            <a:br>
              <a:rPr sz="4000"/>
            </a:br>
            <a:r>
              <a:rPr b="1" lang="en-US" sz="4000" spc="-1" strike="noStrike">
                <a:solidFill>
                  <a:srgbClr val="696464"/>
                </a:solidFill>
                <a:latin typeface="Franklin Gothic Book"/>
              </a:rPr>
              <a:t>Essential Ques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Perpetua"/>
              </a:rPr>
              <a:t>BI: Writing is the process of communicating in print for a variety of audiences and purpose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EQ: How do good writers express themselves? How does process shape the writer’s product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http://www.nhcs.k12.nc.us/instruction/CITWweb/ObjectivesFeedback/Big%20Ideas%20and%20Essential%20Questions%20in%20Curriculum.pd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20:48:59Z</dcterms:created>
  <dc:creator>Beth</dc:creator>
  <dc:description/>
  <dc:language>en-US</dc:language>
  <cp:lastModifiedBy>Donna</cp:lastModifiedBy>
  <dcterms:modified xsi:type="dcterms:W3CDTF">2011-03-15T01:34:48Z</dcterms:modified>
  <cp:revision>7</cp:revision>
  <dc:subject/>
  <dc:title>Developing Essential Questions</dc:title>
</cp:coreProperties>
</file>